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8D23A-559C-40FD-97BD-ACC1FD4F362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5904D-3291-4810-99EB-BB6C0D8DDBD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1A888-08CD-4E67-81B7-26D34FA75C7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83DAC-BED7-49AA-AFFB-FDA5DDC8D2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6FFBE-1C88-47C9-AA71-3921B9462AB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0F1-9534-4748-BF3C-2A30D212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6D9-4E55-451C-9083-371D6A49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B94-11A9-4279-9A4F-12739FBF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1C0-B98B-4386-A2EF-366F4A33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26E-205B-4726-9D0A-BFAC041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038-89FC-4777-A752-560F4CE5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63A-56A3-4188-A2F3-A556FB6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153-AF6D-4CBF-92BA-B75D213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5A8-60EE-4C98-8294-4043A8EB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5EB-8A95-4978-8827-034C703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791-D8BA-4849-90C6-6A238D3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425-E010-40F8-82D1-5926AFE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3B7CE-0731-47E5-A023-0B732AD5CF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68760" y="274680"/>
            <a:ext cx="3619440" cy="2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Lehrplannavigator NRW Textilgestaltung Realschule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Fingerstrick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7f7f7f"/>
                </a:solidFill>
                <a:latin typeface="Calibri"/>
              </a:rPr>
              <a:t>Eine kurze Anleitung mit Bil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Bild 8" descr="DSC_0004.JPG"/>
          <p:cNvPicPr/>
          <p:nvPr/>
        </p:nvPicPr>
        <p:blipFill>
          <a:blip r:embed="rId1"/>
          <a:stretch/>
        </p:blipFill>
        <p:spPr>
          <a:xfrm>
            <a:off x="2768760" y="2643120"/>
            <a:ext cx="4241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9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Wiederhole Schritt 7 und 8 bis du meinst, dass deine Schlange lang genug 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0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Nach etwa 10 Reihen kannst du die Schlaufe vom Daumen lösen. Ziehe daran und bringe deine Strickschlange in 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Bildplatzhalter 2" descr="DSC_00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rtig? Lang genug? 1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7f7f7f"/>
                </a:solidFill>
                <a:latin typeface="Calibri"/>
              </a:rPr>
              <a:t>Schneide deinen Faden nach etwa 20 cm ab (Achtung: nicht zu kurz!) und ziehe ihn durch die Schlaufen an deinen Fingern. Nun kannst du deine Strickschlange von der Hand nehm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Bildplatzhalter 3" descr="DSC_000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Bildplatzhalter 9" descr="DSC_000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ilde eine Schlau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Lege die Schlaufe um deinen Dau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Bildplatzhalter 2" descr="DSC_000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3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Lege das lange Ende des Fadens vorne am Zeigefinger herum um deine Fi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Bildplatzhalter 2" descr="DSC_000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4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en Faden um den kleinen Finger und die anderen Finger heru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ildplatzhalter 3" descr="DSC_0008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5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Lege dir das lange Fadenende oberhalb der Garnschlingen entlang diner Handinnenfläche. Das lange Ende ist jetzt am kleinen Fi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Bildplatzhalter 3" descr="DSC_0009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6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Bildplatzhalter 3" descr="DSC_001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7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ir den Faden oberhalb deiner Handfläche locker über die Schlauf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platzhalter 2" descr="DSC_001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8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6:26:50Z</dcterms:created>
  <dc:creator>Patricia</dc:creator>
  <dc:description/>
  <dc:language>en-US</dc:language>
  <cp:lastModifiedBy>Sohnius, Axel</cp:lastModifiedBy>
  <cp:lastPrinted>2013-06-05T12:03:37Z</cp:lastPrinted>
  <dcterms:modified xsi:type="dcterms:W3CDTF">2013-06-06T11:32:26Z</dcterms:modified>
  <cp:revision>13</cp:revision>
  <dc:subject/>
  <dc:title>PowerPoint-Präsentation</dc:title>
</cp:coreProperties>
</file>