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682EA-BEF2-4431-A3E6-AA6984B00A7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56B9E-53E9-4CB5-B9BC-5C844356421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B5605-782E-414C-B745-8BA650A3C49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A9ECA-628B-4685-AD88-DFB534B80AA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35420-FCB9-4FBA-8E7A-B5CEA68EFE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7DF-8E66-41E8-A56A-D8533E32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B06-F5BC-4B32-867C-F87C03D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38C-36A9-476C-AB14-97285B50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167-2B79-4A3A-A904-A2A8F441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2AE-B339-4022-BA81-B78966B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6E9-DD6F-460F-B46F-B78F37C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96F-73F6-46BD-82D5-2D4ACCC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2EB-3A33-433C-ABF5-8429D43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27A-A69D-4A4A-9B2C-0ACF6F6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F12-15E3-49C2-9BFF-E876708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470-63D1-4D57-A31A-9779127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276-BF15-45F1-BEA7-6238603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BDB98-0EA0-4A9B-A0C5-3985D69E8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68760" y="274680"/>
            <a:ext cx="3619440" cy="2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Lehrplannavigator NRW Textilgestaltung Realschule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Fingerstrick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7f7f7f"/>
                </a:solidFill>
                <a:latin typeface="Calibri"/>
              </a:rPr>
              <a:t>Eine kurze Anleitung mit Bil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Bild 8" descr="DSC_0004.JPG"/>
          <p:cNvPicPr/>
          <p:nvPr/>
        </p:nvPicPr>
        <p:blipFill>
          <a:blip r:embed="rId1"/>
          <a:stretch/>
        </p:blipFill>
        <p:spPr>
          <a:xfrm>
            <a:off x="2768760" y="2643120"/>
            <a:ext cx="4241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9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Wiederhole Schritt 7 und 8 bis du meinst, dass deine Schlange lang genug 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0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Nach etwa 10 Reihen kannst du die Schlaufe vom Daumen lösen. Ziehe daran und bringe deine Strickschlange in 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Bildplatzhalter 2" descr="DSC_00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rtig? Lang genug? 1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7f7f7f"/>
                </a:solidFill>
                <a:latin typeface="Calibri"/>
              </a:rPr>
              <a:t>Schneide deinen Faden nach etwa 20 cm ab (Achtung: nicht zu kurz!) und ziehe ihn durch die Schlaufen an deinen Fingern. Nun kannst du deine Strickschlange von der Hand nehm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Bildplatzhalter 3" descr="DSC_000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Bildplatzhalter 9" descr="DSC_000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ilde eine Schlau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Lege die Schlaufe um deinen Dau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Bildplatzhalter 2" descr="DSC_000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3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Lege das lange Ende des Fadens vorne am Zeigefinger herum um deine Fi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Bildplatzhalter 2" descr="DSC_000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4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en Faden um den kleinen Finger und die anderen Finger heru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ildplatzhalter 3" descr="DSC_0008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5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Lege dir das lange Fadenende oberhalb der Garnschlingen entlang diner Handinnenfläche. Das lange Ende ist jetzt am kleinen Fi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Bildplatzhalter 3" descr="DSC_0009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6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Bildplatzhalter 3" descr="DSC_001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7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ir den Faden oberhalb deiner Handfläche locker über die Schlauf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platzhalter 2" descr="DSC_001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8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6:26:50Z</dcterms:created>
  <dc:creator>Patricia</dc:creator>
  <dc:description/>
  <dc:language>en-US</dc:language>
  <cp:lastModifiedBy>Sohnius, Axel</cp:lastModifiedBy>
  <cp:lastPrinted>2013-06-05T12:03:37Z</cp:lastPrinted>
  <dcterms:modified xsi:type="dcterms:W3CDTF">2013-06-06T11:32:26Z</dcterms:modified>
  <cp:revision>13</cp:revision>
  <dc:subject/>
  <dc:title>PowerPoint-Präsentation</dc:title>
</cp:coreProperties>
</file>