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7C5-BDB7-401B-9E7C-A3916DF3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29E-80A3-436F-B1EC-C00ECD03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7C0-0A24-4BEE-A9B4-5E59CAE6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418F-CAB5-4C15-9467-C3597903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9EA-5040-4DE3-989F-FD79A773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19D-412B-4C78-9488-D38F6E2F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040-E332-478D-A4F1-D3E4C69D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DDC-2B7E-4F36-8232-4A4D4954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27B8-8154-46C6-87CC-89959551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004-AE84-4911-8780-B0AA2C8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349-478F-473C-B8A2-1662D68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53D-104F-4B94-9A35-4DAABB16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2430-14AC-4320-B2A9-31AF186146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3" descr=""/>
          <p:cNvPicPr/>
          <p:nvPr/>
        </p:nvPicPr>
        <p:blipFill>
          <a:blip r:embed="rId1"/>
          <a:stretch/>
        </p:blipFill>
        <p:spPr>
          <a:xfrm>
            <a:off x="826920" y="83340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ein Ohrenöffner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in Ohrenöffner“ ist ein Lernportfolio für den Musikunterr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in Ohrenöffner“ will eine zielgerichtete Sammlung von Themen, Arbeiten und Produkten ermöglichen, welche die individuellen Bemühungen, Fortschritte und Leistungen des Lernenden zeig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dem Portfolio „Mein Ohrenöffner“  kann eine individuelle Erfolgsgeschichte des eigenen Lernens in der Orientierungsstufe entsteh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ZIELE „meines Ohrenöffners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äsent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kennt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okument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rlebni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flekti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852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ruktur: Deckbla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 rot="153600">
            <a:off x="2514240" y="912600"/>
            <a:ext cx="3537000" cy="466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 rot="1446000">
            <a:off x="5447880" y="2101680"/>
            <a:ext cx="3181320" cy="4267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 rot="21001200">
            <a:off x="71280" y="2311560"/>
            <a:ext cx="3095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reative Produkte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4038480" cy="258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067280" y="1197000"/>
            <a:ext cx="4038480" cy="2868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 rot="19759800">
            <a:off x="5520960" y="3392640"/>
            <a:ext cx="403056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70c0"/>
                </a:solidFill>
                <a:latin typeface="Arial"/>
              </a:rPr>
              <a:t>Ideale Schü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nden kognitive, metakognitive und motivationale Verhaltensstrategien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lanen, setzen sich Ziele und organisieren ihren Lernproz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obachten und evaluieren ihren Lernproz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nd sich darüber bewusst, was sie können und was sie noch nicht kö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chen aktiv nach Informationen und unter-nehmen sinnvolle Schritte zum Erwerb und zur Sicherung von Wissen und Fähigk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Arial"/>
              </a:rPr>
              <a:t>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ammlung von Dokumenten, die etwas über individuelle Lernergebnisse und /oder Lernprozesse der Schüler aussagen und von diesen reflektiert we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meinsame Erstellung von Kriterien und Zi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sentation in geeignetem Rah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wer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Arial"/>
              </a:rPr>
              <a:t>„</a:t>
            </a:r>
            <a:r>
              <a:rPr b="0" lang="de-DE" sz="4400" spc="-1" strike="noStrike">
                <a:solidFill>
                  <a:srgbClr val="333399"/>
                </a:solidFill>
                <a:latin typeface="Arial"/>
              </a:rPr>
              <a:t>Ohrenöffner“ bewer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ewertungsbo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ckblatt vorha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zeichnis vorha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äsentieren der Produk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kriterienbezogene Ra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06:51Z</dcterms:created>
  <dc:creator>Ingrun</dc:creator>
  <dc:description/>
  <dc:language>en-US</dc:language>
  <cp:lastModifiedBy>MSW</cp:lastModifiedBy>
  <dcterms:modified xsi:type="dcterms:W3CDTF">2012-09-19T14:22:10Z</dcterms:modified>
  <cp:revision>37</cp:revision>
  <dc:subject/>
  <dc:title>Reflexives Schreiben</dc:title>
</cp:coreProperties>
</file>