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A74-D56F-4562-8211-2A5302A5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0AD-69CD-4690-B00A-4AB65530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227-5035-4E0B-860F-2DC41A5A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F5B-917B-4259-8E3C-1D94527D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810-96C6-49DE-95A1-11D69FC8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BB6-C833-4803-A53B-4B013B1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7E6-146C-4FF1-A7E3-B585831A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7CD-5912-45C7-9868-88A8B285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9E2-E1FF-4A00-B2D4-8C07392B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677-7E96-417B-B7F3-E07C1C8B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ED4-50A0-4773-8175-75908A2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ED3-AB90-4210-B35D-8F1CB049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546C-9391-4D7E-9EEB-AC1D652252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3" descr=""/>
          <p:cNvPicPr/>
          <p:nvPr/>
        </p:nvPicPr>
        <p:blipFill>
          <a:blip r:embed="rId1"/>
          <a:stretch/>
        </p:blipFill>
        <p:spPr>
          <a:xfrm>
            <a:off x="826920" y="83340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ein Ohrenöffner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in Ohrenöffner“ ist ein Lernportfolio für den Musikunterr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in Ohrenöffner“ will eine zielgerichtete Sammlung von Themen, Arbeiten und Produkten ermöglichen, welche die individuellen Bemühungen, Fortschritte und Leistungen des Lernenden zeig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 dem Portfolio „Mein Ohrenöffner“  kann eine individuelle Erfolgsgeschichte des eigenen Lernens in der Orientierungsstufe entsteh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ZIELE „meines Ohrenöffners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sent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kenntn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kument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lebn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flekt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852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uktur: Deckbla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 rot="153600">
            <a:off x="2514240" y="912600"/>
            <a:ext cx="3537000" cy="466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 rot="1446000">
            <a:off x="5447880" y="2101680"/>
            <a:ext cx="3181320" cy="4267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 rot="21001200">
            <a:off x="71280" y="2311560"/>
            <a:ext cx="3095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reative Produkte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038480" cy="258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067280" y="1197000"/>
            <a:ext cx="4038480" cy="286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 rot="19759800">
            <a:off x="5520960" y="3392640"/>
            <a:ext cx="403056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70c0"/>
                </a:solidFill>
                <a:latin typeface="Arial"/>
              </a:rPr>
              <a:t>Ideale Schü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nden kognitive, metakognitive und motivationale Verhaltensstrategien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lanen, setzen sich Ziele und organisieren ihren Lernproz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obachten und evaluieren ihren Lernproz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nd sich darüber bewusst, was sie können und was sie noch nicht kö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n aktiv nach Informationen und unter-nehmen sinnvolle Schritte zum Erwerb und zur Sicherung von Wissen und Fähigk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Arial"/>
              </a:rPr>
              <a:t>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ammlung von Dokumenten, die etwas über individuelle Lernergebnisse und /oder Lernprozesse der Schüler aussagen und von diesen reflektier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meinsame Erstellung von Kriterien und Zi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äsentation in geeignetem Rah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333399"/>
                </a:solidFill>
                <a:latin typeface="Arial"/>
              </a:rPr>
              <a:t>Ohrenöffner“ bewert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Bewertungsbo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ckblatt vorha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zeichnis vorha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äsentieren der Produk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kriterienbezogene Ra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9:06:51Z</dcterms:created>
  <dc:creator>Ingrun</dc:creator>
  <dc:description/>
  <dc:language>en-US</dc:language>
  <cp:lastModifiedBy>MSW</cp:lastModifiedBy>
  <dcterms:modified xsi:type="dcterms:W3CDTF">2012-09-19T14:22:10Z</dcterms:modified>
  <cp:revision>37</cp:revision>
  <dc:subject/>
  <dc:title>Reflexives Schreiben</dc:title>
</cp:coreProperties>
</file>