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636-66E6-437B-8322-20889A7D056E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0F5-C9D8-4FB8-A513-E079336634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8F02-6083-40C5-9FB8-680DED87D7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61E-4034-4805-8969-796CAD4F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35C-0E63-43AD-9953-4E509F03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61B-69E7-4E53-AA3A-E03C376A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A08-E455-4668-B71A-D177EF9D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3F5-EDB4-44EA-BC70-E672550F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F38-AF80-401D-B3C2-4D6323E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0C5-48DC-4D04-B483-69CCC4E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175-76A8-4E3E-9A7E-B2ADD6F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C8A-0A06-4964-91D8-7E41FF34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E4E-7A78-4C5C-8D78-4FA495A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41E-4472-48BA-93CF-4126431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C55-2E4F-4C01-966D-0F69DF3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DA5-C1A9-4CA4-892B-31AF3DD0AF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yster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einer didaktischer Hintergr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ußzeilenplatzhalter 3"/>
          <p:cNvSpPr/>
          <p:nvPr/>
        </p:nvSpPr>
        <p:spPr>
          <a:xfrm>
            <a:off x="3132000" y="5300640"/>
            <a:ext cx="2895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(Neue) Kernlehrpläne fü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Gesellschaftswissenschaften an den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Zf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Am Beispiel von: Fachseminar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olitik/Wirtschaft/Sozialwissenschaften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, Sekundarstuf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r „didaktische Ort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ls Einstieg in eine Unterrichtsrei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stellung der Problemstellung, Aktivierung von Alltagsvorstellungen und Vorwissen, Sammlung offener F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m Verlauf / am Ende einer Unterrichtsrei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dann als komplexeres Myst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reifen spezieller Aspekte, Vertiefung, Lernzielkontrolle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Quel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uler, Stephan: Mysterys als Lernmethode für globales Lernen. Ein Beispiel zum Thema „Weltmarkt für Zucker“, in: Praxis Geographie 4/2005, S. 22-27, hier S.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inige veröffentlichte Mystery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hne, Markus W.: Warum wählen? Die Wähler und ihr Verhältnis zum Wahlrecht, In: Praxis Politik 4/2009, S. 10-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hristov, Alexander/Lorbeer, Dietrich Andreas: Vorurteile überdenken mithilfe der Mystery-Methode, in: Praxis Schule 5-10, Heft 2/2008, S. 38-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rius, Marén: Wer ist die Frau neben ihm? Das Mystery als neue Methode für die Politische Bildung, In: Praxis Politik 3/2006, S. 17-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mann, Thomas: Der Weltkaffeehandel. Erlernen von Nord-Süd-Beziehungen mithilfe eines Mysterys, In: Praxis Geographie 4/2005, S. 28-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ler, Stephan: Mystery als Lernmethode für globales Lernen. Ein Beispiel zum Thema „Weltmarkt für Zucker“, In: Praxis Geographie 4/2005, S. 22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nkan/Rohwer/Schuler: Diercke Methoden – Denken lernen mit Geographie, Braunschweig 2007 (darin Kapitel Mystery, S. 106-1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rbeitsauftrag (EA/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Entwickeln Sie ein Mystery,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estehend 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Vorgeschichte und Leitfra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Mysterykar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antizipierten Lösungen in Niveaustu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2. Reflektieren Sie, welche Kompetenzebenen des KLP Berücksichtigung fin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3. Wie würden Sie Ihr Mystery in ein Unterrichtsvorhaben didaktisch einord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räsentationen und Reflex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Reflexion der Kompetenzebenen des KL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Leistungsfähigkeit im Hinblick auf kompetenzorientierten Unterric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Chancen und Vorte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Bewertung der Metho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Ansatz geht auf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David Lea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urück, der Ende der 90er Jahre unter dem Schlagwort „Thinking Through Geography“ schlussfolgerndes und vernetzendes Denken in Alltagszusammenhängen verfolg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ysterys sind eine Lernform in diesem Ansa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mgang mit Texte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 bestehen Unterrichtsaufgaben aus der Zusammenfassung von wohl organisierten, vorgegebenen Texten zu einem Th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Alltag begegnen uns Probleme dagegen meist auf andere Weise. Aus unterschiedlichen Quellen nehmen wir meist Informationsfragmente auf, die oft auch noch widersprüchlich s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childTnLst>
                                    <p:set>
                                      <p:cBhvr>
                                        <p:cTn id="10" dur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as sind Myster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ysterys sind Rätsel oder „Geheimnisse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eröffnen eine Möglichkeit, den Prozess des Denkens und der alltagsnahen Wissenskonstruktion, die auf Vorwissen aufbaut, im Unterricht aufzugreifen und einer systematischen Reflexion zugänglich zu ma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lussfolgerndes und vernetzendes Denken trainieren (Sachkompetenz, Methodenkompetenz, Urteilskompeten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wicklung der Lesekompet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tscheidungen und Schlussfolgerungen argumentativ begründen können (Urteilskompetenz, Sprachkompeten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ruppen zusammen an einer Problemlösung arb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childTnLst>
                                    <p:set>
                                      <p:cBhvr>
                                        <p:cTn id="16" dur="1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ysterys folgen der Tradition des problemorientierten Unterrichts und bestehen jeweils aus drei Grundelem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Vorgeschichte und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Leitfrage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ärtchen mit ungeordneten Inform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gf. Kontextmaterial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ysterys konstru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ysterys können in vielen Unterrichtsfächern entwickelt werden, zumeist sind sie je nach Thema fächerverbindend konstru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s Ausgangspunkt bieten sich Reportagen oder interessante Zeitungsmeldungen, oft auch Schulbuchausschnitte an, in denen grundlegende, abstrakte Zusammenhänge und Entwicklungen mit konkreten Personen verknüpft und dadurch veranschaulich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eitere Hinweise zur Konstruk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nkrete Personen und 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rzählstrang mit Spannungsbo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entrale Leitfrage(n) als motivierender Startpunk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. 16-30 Kärtchen (je nach Lerngrup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Kontextinformatio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u.U. ambivalente und irreführende Informationen, nicht aber falsche (Zwang zur Gewichtung von Sachverhal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ülerseitige Lösungen mit Niveaustufen antizipieren (ggf. Möglichkeiten unterschiedlicher Lösungen vorseh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flex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Reflexionsphase muss die eingesetzten Problemlösestrategien bewusst machen und kritisch hinterfr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können sich neue (Problem-)Fragen erge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ußzeilenplatzhalt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r. Lorbeer, GE Holweide - ZfsL Leverku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21:47:55Z</dcterms:created>
  <dc:creator> </dc:creator>
  <dc:description/>
  <dc:language>en-US</dc:language>
  <cp:lastModifiedBy>Heike Hornbruch</cp:lastModifiedBy>
  <dcterms:modified xsi:type="dcterms:W3CDTF">2014-07-07T16:53:44Z</dcterms:modified>
  <cp:revision>17</cp:revision>
  <dc:subject/>
  <dc:title>Mysterys</dc:title>
</cp:coreProperties>
</file>