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6BA8-90B9-4AD8-8BB1-46D58C8440A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B0D2-481E-4E49-BD8F-8ED4D0B578C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7BA2-F216-47CA-9659-20992ADEF729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621A-4B07-4161-AE69-0D9B4878A17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0642-7609-4138-A7FC-DBADDF77891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CE1D-E4D8-439E-9B54-3EFFC0DB4FF7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57DD-FE09-4A42-A5C3-C2C2CCEC931E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7322-D4F3-4A19-A4D6-27B3311B700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17D-7D97-4885-83EC-71542CBD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661F-8385-4BFF-8163-353FFDDD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A9B-EED9-4C05-AC60-62B1CB91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71B5-52C4-479F-990E-5F438874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7470-6DA3-4D18-89B6-3FE19D0D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6C1E-2787-4D29-920D-675ADB91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B843-FC2A-497B-A2B0-98E64FD1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FA87-438B-42A5-9A7A-05943327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F6FA-5606-41E1-8ABF-A46E0923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8B0D-C4A8-4344-8B09-2EC37BF1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A1B2-1F56-4E69-BDD1-C873A2FC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D64-7328-4AD5-9E4C-C1337C11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5D53-A858-4C68-9651-26AF3444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0B71-7A43-4705-8820-AF21B516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4A1B-25DF-4BA1-A7DB-B112388D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A060-E05E-4BAE-93EE-C33B9943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C9EC-43B3-4C12-9ED5-8AFFD571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263-98BF-4025-AE2E-4A89817B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DF3-0CB4-47CB-86FE-2C15FAA0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3D0-DF83-4E6A-B943-982D58AE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AFD1-C1ED-4C80-BCE3-95650F87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105-6081-4C52-A5D3-BFE9D942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7C69-62C4-4138-AF69-744CB686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8D5-2ACC-490C-8BA7-6E939ACA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AE86-8FBB-457F-9831-D631967CF15D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3A7D-3499-4F83-81EB-9A2851489C57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3F4D-9336-4AA5-826D-E6A33D255537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4EB1-86E7-453B-8428-E5F6FCCA5E9E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7F21-7E49-44C1-818A-45751115DC5B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6465-07D4-4908-9394-A77A0488090F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899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fffcc"/>
                </a:solidFill>
                <a:latin typeface="Arial Narrow"/>
              </a:rPr>
              <a:t>Der Baum als Lebensraum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771640" y="2924280"/>
            <a:ext cx="6384960" cy="24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ernprobjekte in stark heterogenen Grup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ompetenzorientierter Unterrich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achübergreif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ologie, Deutsch, Mathemati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nnendifferenzi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umsplatzhalt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B0D4-B502-484F-BB42-7294CC618DF8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oliennummernplatzhalt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9890-C44E-4964-9B5E-D20C2B9C94BD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Worum geht es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00000" y="1484280"/>
            <a:ext cx="60958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sgangspunkt: Anklageschr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 Baum wurde gefäl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N werden an verschiedene Aspekte des Themas „Baum“ und „Baumschutz“  herangefüh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genständiges Sammeln von Informati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exterfassung und –erstell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7F2E-41A5-468F-9201-99F01E3FA564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oliennummernplatzhalt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13A6-97CC-4469-A1F3-5D2428CDAFC0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Relevanz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90560" y="22096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nfrontation mit  realistischen Proble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orstellungen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cher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blemlös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umsplatzhalt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FF65-671C-4CEE-AE06-0F2A2F87EF1D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oliennummernplatzhalt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071C-C1C0-4203-A3BF-2A121B73CF49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1028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Teilaspekte in der Biologi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6880" y="22096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aumschutzsatz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aumbestimm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ltersbestimmung von Bäu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tzen der Bä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xkursion in den Wa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umsplatzhalt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271E-147B-430B-B74E-6C7C027C4FAD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oliennummernplatzhalt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790C-609C-486A-9C86-F7AB0305F7CC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Teilaspekte Mathemati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örsterdrei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öhen- und Umfangbestimm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chsensymmet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berfläche und Vo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kursion in den Wald mit praktischer Anwendung des Erler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umsplatzhalt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62C7-CEA8-42DD-8F7C-76A0F4479726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oliennummernplatzhalt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6F7A-7227-484A-8FB8-96E9C46274F3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914400"/>
            <a:ext cx="6095880" cy="125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Teilaspekte Deutsch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19160" y="22860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severständ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tschatzerweiter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rg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extverständnis und Verfassung von Tex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fferenzierung von Sprachebe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ormbri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umsplatzhalt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BDFD-86BA-4681-8382-2F52162D13CB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oliennummernplatzhalt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A0D8-72A0-4266-BF7F-9A0A0383E2C6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Angestrebte Kompetenze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00000" y="1341360"/>
            <a:ext cx="60958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ragestellungen erken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cherchi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formationen identifizieren und umset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akten widergeben und erläu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schreiben, präsentieren und begrün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exte lesen und erst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chverhalte ordnen und strukturi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ssen vernet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rbeits- und Denkweisen reflekti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rgumentieren und Position bezie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wertungen an Kriterien orienti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umsplatzhalt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0605-5609-421F-B3EE-30952A2BCEF6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oliennummernplatzhalt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C3FE-4AEB-420B-9BC6-E781229B2531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92000" y="475920"/>
            <a:ext cx="745164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nzept und Durchführu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örg Restemeyer ARS Kö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drea Kaminski Abendrealschule Bo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aby Ditz und Gaby Pfeffer Tages- und Abendschule Kö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Kontakt: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andrea.kaminski@gmx.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www.abendrealschule-bonn.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gabriele.pfeffer@tas-koeln.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gabriele.ditz@tas-koeln.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www.tas-koeln.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Bild 1" descr="Creative Commons Lizenzvertrag"/>
          <p:cNvPicPr/>
          <p:nvPr/>
        </p:nvPicPr>
        <p:blipFill>
          <a:blip r:embed="rId1"/>
          <a:stretch/>
        </p:blipFill>
        <p:spPr>
          <a:xfrm>
            <a:off x="7667640" y="5661000"/>
            <a:ext cx="8380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by</dc:creator>
  <dc:description/>
  <dc:language>en-US</dc:language>
  <cp:lastModifiedBy>Gaby</cp:lastModifiedBy>
  <dcterms:modified xsi:type="dcterms:W3CDTF">2013-06-15T12:35:33Z</dcterms:modified>
  <cp:revision>10</cp:revision>
  <dc:subject/>
  <dc:title>PowerPoint-Präsentation</dc:title>
</cp:coreProperties>
</file>