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B11A-5FA3-4FEF-88C5-54481C9D8B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5EA7-ED15-438A-8AA1-1C624AB14D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597-00CF-4DD8-9666-9F6F33CF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0C7-6F5E-45F9-82AF-59C5C3D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DAC-F8E2-47B7-ADBC-C70AA598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C44-38C4-4005-9A07-4BCC51A4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599-3069-4343-B370-02BE0CDA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522-E6EF-4C52-AAF9-0474512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A41-6BD9-499E-8E8B-7719DB21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290-4323-42C1-B697-6C67611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9B7-E2CD-4330-ACDE-E0C3744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21B-1FE4-4CE0-98C2-DA0F703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4C7-A29B-46B8-8F0D-0CC08E8F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C1A-3FCC-4663-821A-888BDD4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C867C-B5DF-4123-A8D0-838C4369F3C5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108400" y="26352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547640" y="944640"/>
            <a:ext cx="71647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Lucida Handwriting"/>
              </a:rPr>
              <a:t>Groß und unverzichtbar – vom Nutzen der Bäum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34800" y="3060720"/>
            <a:ext cx="9385560" cy="329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Aufgabe 1: Wie hoch ist der Sauerstoffbedarf eines Dorfes mit 500 Einwohner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Aufgabe 2: Wie viele Stieleichen (mit ca. 130.000 Blättern) werden für eine ausreichende Sauerstoffproduktion benötig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980240" y="74404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31640" y="27162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Lucida Handwriting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8480" y="1852560"/>
            <a:ext cx="3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34800" y="1836720"/>
            <a:ext cx="9385560" cy="71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Sie haben sich nun wichtige Informationen über die Bedeutung der Bäume erarbeitet! Mit Hilfe dieser Fakten können Sie sich dem Verhältnis Baum/Mensch auch mathematisch annäher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34800" y="1836720"/>
            <a:ext cx="9385560" cy="71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Sie haben sich nun wichtige Informationen über die Bedeutung der Bäume erarbeitet! Mit Hilfe dieser Fakten können Sie sich dem Verhältnis Baum/Mensch auch mathematisch annäher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49280" y="1492200"/>
            <a:ext cx="3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Lucida Handwriting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 rot="1080000">
            <a:off x="7174800" y="649080"/>
            <a:ext cx="28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ZUSATZAUFGA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208080" y="6620040"/>
            <a:ext cx="647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Jörg Restemeyer, Andrea Kaminski, Gaby Ditz, Gaby Pfeffer</a:t>
            </a: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Bild 1" descr="Creative Commons Lizenzvertrag"/>
          <p:cNvPicPr/>
          <p:nvPr/>
        </p:nvPicPr>
        <p:blipFill>
          <a:blip r:embed="rId2"/>
          <a:stretch/>
        </p:blipFill>
        <p:spPr>
          <a:xfrm>
            <a:off x="8881920" y="6659640"/>
            <a:ext cx="838440" cy="29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9:09:03Z</dcterms:created>
  <dc:creator>Gaby</dc:creator>
  <dc:description/>
  <dc:language>en-US</dc:language>
  <cp:lastModifiedBy>Gaby</cp:lastModifiedBy>
  <dcterms:modified xsi:type="dcterms:W3CDTF">2013-06-15T11:59:09Z</dcterms:modified>
  <cp:revision>3</cp:revision>
  <dc:subject/>
  <dc:title>PowerPoint-Präsentation</dc:title>
</cp:coreProperties>
</file>